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67F-3F0D-486D-8589-56E2CE9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333-1525-48EC-9023-0E78342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B92-27FB-423D-AEEF-4D5647F1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AF0-458A-48F2-9E2E-263E3610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8A4-D3AD-4D20-A6AB-15C9BC3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9AA-CE93-4E3F-8C20-0E03CB5A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24A-593B-4114-BF4A-DA10395E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169-1B88-437C-9295-A2B710D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FA4-B20E-4322-9641-1F5BB7C5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2C6-942B-40D0-A359-647AD83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872-039D-431D-BC8A-3C61A4A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D43-2B46-485C-9FC2-FEA3510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C034-6149-498C-9F18-DD46A1D1B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cn.net/ca/cap/ataoqi053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artcn.net/ca/cap/ataoqi028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rtcn.net/ca/cap/ataoqi032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ISTORIC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820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6765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Gravesite in Henan"/>
          <p:cNvPicPr/>
          <p:nvPr/>
        </p:nvPicPr>
        <p:blipFill>
          <a:blip r:embed="rId4"/>
          <a:stretch/>
        </p:blipFill>
        <p:spPr>
          <a:xfrm>
            <a:off x="2666880" y="1447920"/>
            <a:ext cx="3733920" cy="27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4724280"/>
            <a:ext cx="141768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1676520"/>
            <a:ext cx="17143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97180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ins of Yin date back to the Shang dynasty. A number of tombs were discovered at this site, but only one, that of Fuo Hao, was undistu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uins and museum of Yin Xu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1120" y="68544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de carving discovered in Fuo Hao's tomb. Fuo Hao was a wife of King Wu Ding during the Shang dynasty and is reported to have served as a military leader. Her tomb was untouched when discovered in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de carving discovered in Shang dynasty tomb"/>
          <p:cNvPicPr/>
          <p:nvPr/>
        </p:nvPicPr>
        <p:blipFill>
          <a:blip r:embed="rId1"/>
          <a:stretch/>
        </p:blipFill>
        <p:spPr>
          <a:xfrm>
            <a:off x="457200" y="685800"/>
            <a:ext cx="4324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human sacrifice is common in elite tombs of the Shang dynas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keletons at Shang dynasty sacrificial site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bron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wine vessel, shaped in the form of an elephant with uplifted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hang dynasty bronze vessel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nese archeologist works at a newly discovered pit of chariots and horses in the ruins of Yin. Five of the seven pits are arranged in a line, with chariots and horses facing eastw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hariot and horse remains at Yin ruin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6002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0-105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4382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On the Huang He River in the North China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956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 series of rulers from the sam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From the tombs and artifacts we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The Shang dynasty is important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10,000 B.C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farmers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houses built partially underground with plastered floors and roofs supported by wooden b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painted pott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geometric designs on it   They used a kiln but no potter’s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35200" cy="27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23524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2286000" y="32767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00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near the Huang He (Yellow) River in northeast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that raised cattle, sheep, pigs, and dogs and grew wheat and m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ettled in southern China to grow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arose to complete projects to contro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lack pottery using a kiln and a potter’s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harvest silk from silkworms to weave fabric which became a major export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9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29400" y="2438280"/>
            <a:ext cx="179856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of the Prehistoric settlements around 2000 B.C.E. (ruled for about 30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them from legends and eventually what archeologists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ronze weapon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p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s communicated with spirits for help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by the Shang, 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ventually become China’s first dynasty when and if more evidence is found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70200" cy="274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373392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24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tortoise shell with pictographs. The Shang dynasty is the earliest Chinese dynasty supported by archeological and written evidenc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hang pictographs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43:50Z</dcterms:created>
  <dc:creator>gehadde</dc:creator>
  <dc:description/>
  <dc:language>en-US</dc:language>
  <cp:lastModifiedBy>gehadde</cp:lastModifiedBy>
  <dcterms:modified xsi:type="dcterms:W3CDTF">2012-03-09T14:12:23Z</dcterms:modified>
  <cp:revision>18</cp:revision>
  <dc:subject/>
  <dc:title>SHANG DYNASTY</dc:title>
</cp:coreProperties>
</file>